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E2C-450A-43C6-A86E-A1733CA6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670-7E09-45C5-9F6F-07784F66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C2C-43F4-478F-9CE3-2AEB7791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76D-C305-4B15-8A46-0E7B4FE6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3351-C0E4-4F2F-B68A-D0BA85B8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BCF4-4193-4078-8FFF-6728668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067-6FD0-45C9-A250-F394F013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195-F366-48BE-A227-630B978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F648-07FD-4543-AAEB-7CA50DC9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90E2-E27B-43F0-BA59-C428F1C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6804-456D-4600-969D-928F9FDE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847-77F8-4D4B-9EAC-38881768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6C07-E748-4770-9FE0-5D6981AB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16E8-78B0-4865-B27E-C867720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551A-26B4-46B6-B256-83EDBDB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F811-050E-4825-B2B5-DE3A6020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7348-6C1D-4B65-83C5-BA8048CD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50BD-E527-4880-BA19-0EFA0FBE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1CE1-3573-4C75-84A4-4A46F2C0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5C26-CEDF-4732-A97F-36E2E44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67F9-AC72-4373-933C-E1D4C8F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8F84-929C-4AF7-A9FA-9F9D86D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2E7-9BC9-45D9-9D55-8E071818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25A8-6005-47DA-A46C-7EB353A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3E0B-537D-48AF-8DAE-52DED256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EDDE-4BD7-4B06-BFA3-C8627D7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9ACD8-B73F-44AA-ABDC-C6B6F89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C619-0FED-4591-80C3-C0BBE698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12FC-FEBA-4C44-BA8C-60E168B0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0B1A-DA33-4902-ADFE-A493166A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1606-BDE7-4B73-90BC-9533DC28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103C-2048-4254-8DE4-06F465F3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B8D7-48CE-471C-BF29-FA9DA871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E5C-7247-47A3-B003-000C109D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73FD-CF92-46FF-8CE0-8EC13219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ECF9-67FD-49A8-B101-838B670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3B57-6213-43C8-99A0-CF4905C0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D846-2600-4215-9719-80D2935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ACDB-06D9-4654-8E9B-518ECA4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F640-B79E-4755-8632-7A0BBA8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0E26-DFF7-4BB9-9735-BDB5E915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EE9A-3A0B-4F65-8150-B4621850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4C68-625B-4A36-AC26-AD879975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C318-6E20-4088-B3A7-C63C971F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026-1EFE-488A-BA6A-D6E652E8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3B1B-4C1D-404A-B9B7-8524D0D2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5497-A44A-436F-85C1-085F34B1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ABEA-9387-4820-8DF5-42B7F2B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DDD67-3996-4F77-9FD4-F57066F3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FC0A-ECC6-4E26-95CD-B3214F5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ACF8-304B-48AC-B647-53D291B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0532-4311-41A5-8063-067D8F15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AE8C-4313-4B63-AC5F-800E611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D35B-DB48-46E4-9CF1-01D0DE23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A7CD-B4CF-4A03-9965-51921781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2B9-510D-4B75-99F3-4DD04631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1996-455D-4080-9A63-71FE0A93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EA97F-6F40-4F9F-B95F-B782D798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4D898-824D-4658-91CB-ECCEFD73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2F33A-309F-4BA3-A4BB-D9871F0F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EFE06-5D7E-459E-B473-B3A2F168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B871-AE4E-43D7-BBBF-8589BA12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7B3A-4906-4494-A1C2-B7EDDD47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42A43-072E-4ECD-8F5C-14D1E604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7CD9-1064-4D4A-BC59-2ADF751A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4448-BFF9-48D2-921B-3CED187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D97-11DE-4B6F-BEFA-85F8715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0FEF-1B3A-4B67-A1FA-22FBCAF3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AB385-9A43-4DCB-93AB-A7A8127A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6F026-64A6-4157-AC28-4AE2C573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DBB5-F374-43BC-95C6-9D81FD2B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ED3A-4A5E-42AC-94AE-0AC1570E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2DFB-E9F2-41E8-ABC7-CF92AC2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D30AE-F6E0-48BF-A484-3A3CE5FA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82FCF-FB9C-4920-8224-0EC9A44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9398B-0D11-4530-8E30-32CFBD3A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F8B5-10FE-413F-AF3C-1DE24533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77F-9CFB-44B6-B268-9841DEC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9ACB-5E3F-4881-8DCD-C307528A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2E87-8EB4-4FDE-9DF3-33B29AB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FB58-D625-4EDF-9A95-EC4589E9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3D0A0-16C2-47C0-92FB-4C6AFC09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ECFC2-096B-4EA8-9B0E-44B3B872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D13-D13F-4F3B-95FC-AE614781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CCB3-A7AB-4762-B2B1-01380D3421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7BD3-8411-4C59-A006-3D87B8C5BE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0FBD-801E-42CC-BE13-31ADB02EBC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B7A5-E55B-4BFC-8612-D31023F6E1D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D18D-AD92-42D2-8072-6AA2DD546F1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3ADA-7159-49C4-A667-579BC4D25D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F5F8-B5F3-47DD-A813-602E08D672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Bradley Hand ITC"/>
              </a:rPr>
              <a:t>Tips, Tricks and Tools for Wr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20e04"/>
                </a:solidFill>
                <a:uFillTx/>
                <a:latin typeface="Gill Sans MT"/>
              </a:rPr>
              <a:t>C.A.S.E. Assistive Technology Tea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Paula Costello MS, OTR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Tricia Sharkey MA CCC-SLP/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Mary May, Orthopedically Impaired Itinerant Teach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Gill Sans MT"/>
              </a:rPr>
              <a:t>Barb Layer, Orthopedically Impaired Itinerant Teach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br>
              <a:rPr sz="2200"/>
            </a:br>
            <a:r>
              <a:rPr b="0" lang="en-US" sz="1400" spc="-1" strike="noStrike">
                <a:solidFill>
                  <a:srgbClr val="3333ff"/>
                </a:solidFill>
                <a:latin typeface="Gill Sans MT"/>
              </a:rPr>
              <a:t>Task:  Drafting</a:t>
            </a:r>
            <a:br>
              <a:rPr sz="2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14040" y="16765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Outlin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Sentence Starte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Model assignme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Use of checklist in writing proces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Photographs to support writing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Word bank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List of transition words and phras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428640" y="16765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d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762120" y="12952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5715000" y="1752480"/>
            <a:ext cx="259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ech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 Interactive Writing Softwar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lassroom Suit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Kurzweil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Read/Write Gold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OLO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Writer, 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OutLoud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OutlLou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Build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licker 5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lozepro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Word Q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ff"/>
                </a:solidFill>
                <a:latin typeface="Gill Sans MT"/>
              </a:rPr>
              <a:t>Revision and Ed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ad and Review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 the message complete, logical and clea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vise and edit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d I engage my audience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d I use conventional grammar and spell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should I delete, add or chang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br>
              <a:rPr sz="2200"/>
            </a:br>
            <a:r>
              <a:rPr b="0" lang="en-US" sz="1400" spc="-1" strike="noStrike">
                <a:solidFill>
                  <a:srgbClr val="3333ff"/>
                </a:solidFill>
                <a:latin typeface="Gill Sans MT"/>
              </a:rPr>
              <a:t>Task:  Revision/Editing</a:t>
            </a:r>
            <a:br>
              <a:rPr sz="2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90720" y="175248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Word Walls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ortable file folder word wal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Cards/Book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Dictiona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Thesauru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05320" y="175248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d Tec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Hand Held Dictionary/spell check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Electronic Dictiona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Electronic Thesauru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762120" y="12952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60040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6019920" y="1752480"/>
            <a:ext cx="2590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ech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Computer Software to support word processing (spell checker, thesaurus)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creen/Text Read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Talking Word Processo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Interactive Writing Softwar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II.  Transcription Skil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cription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l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writing/Keyboar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pitalization/Punct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2666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LOW TECH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         MID TECH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     HIGH TECH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         </a:t>
            </a: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        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Spell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55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56" name="TextBox 5"/>
          <p:cNvSpPr/>
          <p:nvPr/>
        </p:nvSpPr>
        <p:spPr>
          <a:xfrm>
            <a:off x="1148760" y="3200400"/>
            <a:ext cx="165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all/banks/list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3276720" y="3276720"/>
            <a:ext cx="22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held audio spell check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5791320" y="3200400"/>
            <a:ext cx="28954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 checker in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–in-features of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alone spell checker with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and auto correct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Support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Writ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5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Based software such as Ging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LOW TECH         MID TECH               HIGH TECH</a:t>
            </a: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Keyboard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62" name="TextBox 5"/>
          <p:cNvSpPr/>
          <p:nvPr/>
        </p:nvSpPr>
        <p:spPr>
          <a:xfrm>
            <a:off x="1066680" y="3124080"/>
            <a:ext cx="2057400" cy="35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writing programs: e.g.. HWT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boarding vs. Handwriting- Writing Productivity Profile  (Website)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boarding Progr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Type to Learn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 Typ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ance Mat Typ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3505320" y="3276720"/>
            <a:ext cx="2133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gu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board Stick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ble Word Processo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Strategies and   Accessibility options: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lor backgroun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Key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reviation Expansion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6177240" y="3276720"/>
            <a:ext cx="21294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mouse/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rackball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gKey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llikey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screen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ch Screen/Window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Control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Writing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x Writ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licker 5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   </a:t>
            </a: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LOW TECH    MID TECH</a:t>
            </a: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700" spc="-1" strike="noStrike">
                <a:solidFill>
                  <a:srgbClr val="572314"/>
                </a:solidFill>
                <a:latin typeface="Gill Sans MT"/>
              </a:rPr>
              <a:t>      HIGH TECH</a:t>
            </a:r>
            <a:br>
              <a:rPr sz="3200"/>
            </a:br>
            <a:r>
              <a:rPr b="1" lang="en-US" sz="14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14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Handwrit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67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68" name="TextBox 8"/>
          <p:cNvSpPr/>
          <p:nvPr/>
        </p:nvSpPr>
        <p:spPr>
          <a:xfrm>
            <a:off x="1066680" y="3200400"/>
            <a:ext cx="2133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grip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pens/pencil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lined pap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 pap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nted surface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lett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ber stamp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it-note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ncils to trace lett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lines/lett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writing program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3282480" y="3200400"/>
            <a:ext cx="200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record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recorde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0" name="TextBox 10"/>
          <p:cNvSpPr/>
          <p:nvPr/>
        </p:nvSpPr>
        <p:spPr>
          <a:xfrm>
            <a:off x="5874480" y="3200400"/>
            <a:ext cx="2946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process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prediction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screen word bank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screen math/computer calculators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screen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ch screen monit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methods to access keyboar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666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LOW TECH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 MID TECH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          HIGH TECH</a:t>
            </a:r>
            <a:br>
              <a:rPr sz="2900"/>
            </a:br>
            <a:r>
              <a:rPr b="1" lang="en-US" sz="1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lang="en-US" sz="1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1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Transcription Skil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Task:  Capitalization/Punctua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>
            <a:off x="990720" y="2514600"/>
            <a:ext cx="7315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arrow" w="med"/>
            <a:tailEnd len="med" type="arrow" w="med"/>
          </a:ln>
        </p:spPr>
      </p:cxnSp>
      <p:sp>
        <p:nvSpPr>
          <p:cNvPr id="374" name="TextBox 5"/>
          <p:cNvSpPr/>
          <p:nvPr/>
        </p:nvSpPr>
        <p:spPr>
          <a:xfrm>
            <a:off x="6473520" y="327672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word processo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rite Outloud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aft Builder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llitalk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205080" y="335268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reading option in word processor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1143000" y="33526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r’s workshop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editing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member….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of the TOOL is part of the IEP plan, it is  NOT the goal…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use of the tool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uccessfully complete the tas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the go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72314"/>
                </a:solidFill>
                <a:uFillTx/>
                <a:latin typeface="Gill Sans MT"/>
              </a:rPr>
              <a:t>IEP goals for writing skills using Assistive Technology</a:t>
            </a:r>
            <a:r>
              <a:rPr b="0" lang="en-US" sz="3600" spc="-1" strike="noStrike" u="sng">
                <a:solidFill>
                  <a:srgbClr val="572314"/>
                </a:solidFill>
                <a:uFillTx/>
                <a:latin typeface="Gill Sans MT"/>
              </a:rPr>
              <a:t>	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be linked to academic goals focused on written express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 task speci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ement interventions and use sequentially, break goal down into smaller steps for use of the new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progress measurable-how will I determine if the device or strategy has been successfu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collection is important!!  Take a look at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isconsin Assistive Technology Initiativ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site (www.wati.org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72314"/>
                </a:solidFill>
                <a:uFillTx/>
                <a:latin typeface="Gill Sans MT"/>
              </a:rPr>
              <a:t>Writing Instruction Components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.   </a:t>
            </a:r>
            <a:r>
              <a:rPr b="0" lang="en-US" sz="3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.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ranscription Ski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I.  Language Stru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Resource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The following slides provide screen shots of popular software and websites that are available to educators for tools to support struggling wri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CoWriter.jpg"/>
          <p:cNvPicPr/>
          <p:nvPr/>
        </p:nvPicPr>
        <p:blipFill>
          <a:blip r:embed="rId1"/>
          <a:stretch/>
        </p:blipFill>
        <p:spPr>
          <a:xfrm>
            <a:off x="-685800" y="0"/>
            <a:ext cx="103633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Clicker 5.jpg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" descr="Clozepro.jpg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Wordbar.jpg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WordQ.jpg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" descr="WriteOutloud.jpg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" descr="WriteOnline.jpg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19160" y="1281240"/>
            <a:ext cx="890568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04760" y="947880"/>
            <a:ext cx="89344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ff"/>
                </a:solidFill>
                <a:latin typeface="Gill Sans MT"/>
              </a:rPr>
              <a:t>I.  Writing Proce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ing Process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ainstorming/Planning/Organiz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iting and Proofrea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raf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0" y="1047600"/>
            <a:ext cx="91533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66600" y="1285920"/>
            <a:ext cx="9010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66600" y="1200240"/>
            <a:ext cx="9010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Web 2.0 Writing Resources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666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myinfinitec.or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eb2specialeducation.pbworks.com/Writing-T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udltechtoolkit.wikispaces.com/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infinitecwritingseries.wikispaces.com/Featured+Tool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montgomeryschoolsmd.org/departments/.../WPP_how_to.pd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teachervision.com (graphic organize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edhelper.com (graphic organize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docs.google.com/View?id=dgkw4pv6_152dh939kht (D.97 AT Specialist created this google doc to compile all resources from workshop-EXCELLENT RESOURCE!!!!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erials for this presentation adapted from information obtained at the Infinitec Writing Linked Series Workshops (2009-2010)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6 + 1 Trai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434960" y="1447920"/>
          <a:ext cx="7499520" cy="485136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6828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ges of Writ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 +1 Tra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 rowSpan="2"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 rowSpan="3"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RAF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rd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ntence Fl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 rowSpan="2"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VISE/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Gill Sans MT"/>
              </a:rPr>
              <a:t>Brainstorming, Planning and Organization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Generating Ideas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 I have to sa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etting goals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o am I writing to and what do I want to communicate to them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Organizing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what form will I express my ideas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ill I include and what will I leave ou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pports/To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istive Technology supports and tools should be thought of on a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ontinuum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nging from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ow to hig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echnologic support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AT Tools Continuum Flowchart.jpg"/>
          <p:cNvPicPr/>
          <p:nvPr/>
        </p:nvPicPr>
        <p:blipFill>
          <a:blip r:embed="rId1"/>
          <a:stretch/>
        </p:blipFill>
        <p:spPr>
          <a:xfrm>
            <a:off x="-1295280" y="-533520"/>
            <a:ext cx="107442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Gill Sans MT"/>
              </a:rPr>
              <a:t>Writing Process</a:t>
            </a:r>
            <a:br>
              <a:rPr sz="2200"/>
            </a:br>
            <a:r>
              <a:rPr b="0" lang="en-US" sz="1400" spc="-1" strike="noStrike">
                <a:solidFill>
                  <a:srgbClr val="3333ff"/>
                </a:solidFill>
                <a:latin typeface="Gill Sans MT"/>
              </a:rPr>
              <a:t>Task:  Brainstorming/Planning/Organizing</a:t>
            </a:r>
            <a:br>
              <a:rPr sz="2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90720" y="167652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w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aper Graphic Organize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ry erase board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   Checklis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-     Mode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eading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ost It not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8640" y="16765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d Te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762120" y="12952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5867280" y="1752480"/>
            <a:ext cx="259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ech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with word processing capabilities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 features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line or notebook view; Audio notes toolba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Builder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zweil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Tools</a:t>
            </a:r>
            <a:endParaRPr b="0" lang="en-US" sz="1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ff"/>
                </a:solidFill>
                <a:latin typeface="Gill Sans MT"/>
              </a:rPr>
              <a:t>Draf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Generating the language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I translate my ideas into words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I select good words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do I connect ideas within and between my sentenc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ranscription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spelling and punctuation marks do I need to includ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2:27:55Z</dcterms:created>
  <dc:creator>Cooperative Association For Special Education</dc:creator>
  <dc:description/>
  <dc:language>en-US</dc:language>
  <cp:lastModifiedBy>Cooperative Association For Special Education</cp:lastModifiedBy>
  <dcterms:modified xsi:type="dcterms:W3CDTF">2010-10-12T01:10:50Z</dcterms:modified>
  <cp:revision>58</cp:revision>
  <dc:subject/>
  <dc:title>Tips, Tricks and Tools for Writing</dc:title>
</cp:coreProperties>
</file>